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5A86-31A7-461B-9B6E-228CEBB1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A10C-C035-4594-904C-0838E646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7431-F7F1-4E9A-B8CE-26E4778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45A3-6E6B-4963-BC1C-FEDB983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5E94-A22B-40DD-AE2B-CA83C7A5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285E-9E3B-44DA-8D06-DF9C76B3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7D36-073D-4338-9A80-86A27B0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5B4-92B4-4B6A-BC88-5004AA5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14C-BABB-4E01-9F33-1E882EFB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54A-D07C-4F99-BF65-2614E2F1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D49-B77C-46DB-95FE-9D57183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E2CD-7081-40D6-ACAA-84D650EE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4F80-EE20-4114-B1BC-501E9CD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5CBF-B093-4271-A7A4-18FAB7E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A21-C2E4-4161-9C8A-D9204BE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89C-5546-42BE-A92B-8A805B2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6224-96E4-4C42-9492-1849C1A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0EF8-6820-4481-8E97-5AE663C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A802-4B76-4EF9-A903-65812A0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D659-2A81-433B-9880-0DE25D2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E681-A44C-4733-A536-6D1E39B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AA91-6501-4132-87E0-3B4F96D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1178-FF27-4A5D-B0E5-A6FACE5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FD06-A940-4339-9271-9D526A1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4F4-20AF-49A6-924A-84C4E9D63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104-8A51-42B9-B9FC-BE2F99EAC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Verdana"/>
              </a:rPr>
              <a:t>El camino escolar</a:t>
            </a:r>
            <a:br>
              <a:rPr sz="4400"/>
            </a:b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Amics de la bici(Amigos de la Bici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Verdana"/>
              </a:rPr>
              <a:t>La experiencia del I.E.S. Marianao</a:t>
            </a:r>
            <a:br>
              <a:rPr sz="3200"/>
            </a:br>
            <a:r>
              <a:rPr b="1" lang="es-ES" sz="3200" spc="-1" strike="noStrike">
                <a:solidFill>
                  <a:srgbClr val="cc3300"/>
                </a:solidFill>
                <a:latin typeface="Verdana"/>
              </a:rPr>
              <a:t> de Sant Boi de Llobrega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El centro forma parte de la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Red de Escuelas Verdes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 del Departamento de Enseñanza, con objetivo principal de fomentar el respeto por el medio ambiente entre el alumnado y el personal docente y no docente del centr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Uno de los objetivos es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promover el uso de medios de transporte no contaminantes y saludables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como el ir a pie y en bicicleta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Cada año, se organiza una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bicicletada para los nuevos alumnos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 del centro,es decir, para los de primero de la ES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En el año 2002 y después de haber hecho una petición, el centro consiguió la instalación de un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aparcamiento para  bicicletas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 a través del Ayuntamiento de Sant Bo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Aparcamiento para bic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3598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Verdana"/>
              </a:rPr>
              <a:t>El aparcamiento queda vigilado desde el bar y queda cerrado con una llave que se debe pedir en conserjerí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38736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Aparcamiento para bic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275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El alumnado y personal del centro que quiera utilizarlo puede acceder a él a través del vestíbulo, con lo cual es necesario salir al pati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986200"/>
            <a:ext cx="5256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Bicicleta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Organización de la bicicletada para alumnos de primero de ESO, con clase de educación vial. A cargo de la empresa Biciclot</a:t>
            </a:r>
            <a:r>
              <a:rPr b="0" lang="es-ES" sz="1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6327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Bicicleta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632720" cy="238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87640" y="3344760"/>
            <a:ext cx="5400720" cy="2565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465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cc"/>
                </a:solidFill>
                <a:latin typeface="Verdana"/>
              </a:rPr>
              <a:t>Explicación previa y preparación para hacer una ruta por los alrededores del cen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Bicicleta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5219640" cy="21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753080" cy="2143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80000" y="4365720"/>
            <a:ext cx="270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514"/>
                </a:solidFill>
                <a:latin typeface="Verdana"/>
              </a:rPr>
              <a:t>Durante la ruta, se hacen actividades de educación ambiental, en la foto superior, en la parte inferior pie de la montaña de San Ram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Puntos déb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 pesar de todo, el aparcamiento bici no se utiliza todo lo que se podría. Debido 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27664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Falta de carriles bici o caminos escolares seguros para acceder al centro</a:t>
            </a:r>
            <a:r>
              <a:rPr b="0" lang="es-ES" sz="2200" spc="-1" strike="noStrike">
                <a:solidFill>
                  <a:srgbClr val="ffffcc"/>
                </a:solidFill>
                <a:latin typeface="Verdana"/>
              </a:rPr>
              <a:t>, tanto desde Sant Boi como desde los municipios de alreded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Dificultad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ffffcc"/>
                </a:solidFill>
                <a:latin typeface="Verdana"/>
              </a:rPr>
              <a:t>tanto para los alumnos como para el resto de personas que trabajan en el centro (profesorado y  personal no docente), </a:t>
            </a: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de encontrar un sitio más acorde  para guardar la bicicleta en casa o cerca</a:t>
            </a:r>
            <a:r>
              <a:rPr b="0" lang="es-ES" sz="2200" spc="-1" strike="noStrike" u="sng">
                <a:solidFill>
                  <a:srgbClr val="ffffcc"/>
                </a:solidFill>
                <a:uFillTx/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Excesiva proximidad al centro</a:t>
            </a:r>
            <a:r>
              <a:rPr b="0" lang="es-ES" sz="2200" spc="-1" strike="noStrike">
                <a:solidFill>
                  <a:srgbClr val="ffffcc"/>
                </a:solidFill>
                <a:latin typeface="Verdana"/>
              </a:rPr>
              <a:t>, pues la mayoría de alumnos vive muy cerca y, por tanto, prefiere venir a pie, hábito también muy saludab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Falta de costumbre de ir en bici</a:t>
            </a:r>
            <a:r>
              <a:rPr b="0" lang="es-ES" sz="2200" spc="-1" strike="noStrike">
                <a:solidFill>
                  <a:srgbClr val="ffffcc"/>
                </a:solidFill>
                <a:latin typeface="Verdana"/>
              </a:rPr>
              <a:t> regularmente como un medio de transporte</a:t>
            </a:r>
            <a:r>
              <a:rPr b="0" lang="es-ES" sz="1800" spc="-1" strike="noStrike">
                <a:solidFill>
                  <a:srgbClr val="ffffcc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Verdana"/>
              </a:rPr>
              <a:t>¡Queremos caminos escolares seguros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Verdana"/>
              </a:rPr>
              <a:t>Los problemas se deben ir resolviendo progresivamente, y es especialmente importante que el ayuntamiento del municipio promueva Caminos Escolares Seguros para mejorar los accesos a pie y en bicicleta hasta el centro educativ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828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Verdana"/>
              </a:rPr>
              <a:t>¿Qué es el camino escolar?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03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Es el recorrido que deben de hacer los niños y adolescentes desde su casa hasta la escuela o institu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03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¿Cómo podemos hacer el camino escolar más segur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194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Principalmente, son necesarios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los accesos a pie y en bicicleta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, ya que son los medios de transporte más al abasto de los escolares y también los más sanos. Y, sobretodo, hace falta conseguir la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pacificación del tránsito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para garantizar la seguridad de tod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2719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¿Cómo se consigue la pacificación del tránsit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</a:rPr>
              <a:t>Colocando  señales de tránsito que obliguen a los coches a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reducir la velocidad</a:t>
            </a:r>
            <a:r>
              <a:rPr b="0" lang="es-ES" sz="2800" spc="-1" strike="noStrike">
                <a:solidFill>
                  <a:srgbClr val="ffffcc"/>
                </a:solidFill>
                <a:latin typeface="Verdana"/>
              </a:rPr>
              <a:t> en los alrededores de la escuela o institu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6360" y="3222720"/>
            <a:ext cx="3527640" cy="287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56400" y="6237360"/>
            <a:ext cx="335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514"/>
                </a:solidFill>
                <a:latin typeface="Verdana"/>
              </a:rPr>
              <a:t>Escuela Tabor, bario Sagrada Familia de Barcel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22440" y="62406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514"/>
                </a:solidFill>
                <a:latin typeface="Verdana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¿Cómo se consigue la pacificación del tránsit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</a:rPr>
              <a:t>Elevando los pasos de peatones a la misma altura que el pavimento de la ace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5761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08720" y="602136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514"/>
                </a:solidFill>
                <a:latin typeface="Verdana"/>
              </a:rPr>
              <a:t>Paso de peatones elevado, Viladec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¿Cómo se consigue la pacificación del tránsito?</a:t>
            </a:r>
            <a:r>
              <a:rPr b="1" lang="es-ES" sz="36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Con la ampliación de espacios para los peatones y la 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progresiva peatonalización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 cal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76908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494440" y="6367320"/>
            <a:ext cx="430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514"/>
                </a:solidFill>
                <a:latin typeface="Verdana"/>
              </a:rPr>
              <a:t>Ampliación de aceras en el barrio de Gràcia, Barc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¿Cómo se consigue la pacificación del tránsit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5276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Verdana"/>
              </a:rPr>
              <a:t>Favoreciendo el uso de la bicicleta  construyendo carriles bici y aparcamientos para estos vehícu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3309840" cy="41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68920" y="6296040"/>
            <a:ext cx="45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514"/>
                </a:solidFill>
                <a:latin typeface="Verdana"/>
              </a:rPr>
              <a:t>Aparcamiento-bici delante de la escuela Tabor, Barc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Verdana"/>
              </a:rPr>
              <a:t>La bicicleta: un transporte muy habitual entre los escolares de Deltebr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329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Deltebre sin hum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1800" cy="4584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97320" y="602136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514"/>
                </a:solidFill>
                <a:latin typeface="Verdana"/>
              </a:rPr>
              <a:t>El Periódico, 17 de noviembre de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9:54:18Z</dcterms:created>
  <dc:creator>Paco</dc:creator>
  <dc:description/>
  <dc:language>en-US</dc:language>
  <cp:lastModifiedBy>Portatil</cp:lastModifiedBy>
  <dcterms:modified xsi:type="dcterms:W3CDTF">2004-10-19T17:14:37Z</dcterms:modified>
  <cp:revision>34</cp:revision>
  <dc:subject/>
  <dc:title>El camí escolar Amics de la bici</dc:title>
</cp:coreProperties>
</file>