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03D1-6CDB-49A4-941F-7D7953BB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205C-B1B3-43DF-89D1-0BCB4F34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631E-153D-4674-A124-D3B6331C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30BF-B89F-4E57-A30B-8BA2D481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4577-DB4D-46F1-B7FE-5C2729C8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10FA-4BD7-4D8A-9EC6-D5E2E1BA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1F2-356B-4CA8-B81A-997E580A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7038-FE9E-4FAE-A2F1-E264BA8D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5746-667E-470A-B76F-A1D73427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877B-8BD4-4429-8302-49F214AF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4C3D-9386-4CEF-A695-4EC399C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54E0-45FE-4C24-AF37-DB7D8DB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CF27-BB3C-4D9C-921A-327F973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D6D1-5688-416F-A23E-4DCCC2F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A3AB-CE29-42B6-97CC-8C80CCD5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64B-F874-44CD-ACA3-DA8E8BB7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A8AE-C838-42CC-A690-995A8718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6BBA-CAA1-4F4D-AD41-4C213801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3B84-46DE-4F42-9E86-017ACED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75A1-EB2F-4E81-BAC8-C58956D3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4013-E49E-4E89-9DEC-15E2F54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B28B-A192-4E24-BB17-1F8BE626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9B5F-57FB-46C8-841A-BF67BA1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F66A-F1BC-4D74-80CE-7F708E0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CDDB-FF33-4063-B323-651DB8933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F7D9-5F1A-438E-89BB-58660D30A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ff9900"/>
                </a:solidFill>
                <a:latin typeface="Verdana"/>
              </a:rPr>
              <a:t>Routes to school</a:t>
            </a:r>
            <a:br>
              <a:rPr sz="4400"/>
            </a:br>
            <a:r>
              <a:rPr b="1" lang="ca-ES" sz="1600" spc="-1" strike="noStrike">
                <a:solidFill>
                  <a:srgbClr val="ff9900"/>
                </a:solidFill>
                <a:latin typeface="Verdana"/>
              </a:rPr>
              <a:t>Amics de la bici (Friends of the Bicycle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cc3300"/>
                </a:solidFill>
                <a:latin typeface="Verdana"/>
              </a:rPr>
              <a:t>The experience of the I.E.S. Marianao</a:t>
            </a:r>
            <a:br>
              <a:rPr sz="3200"/>
            </a:br>
            <a:r>
              <a:rPr b="1" lang="ca-ES" sz="3200" spc="-1" strike="noStrike">
                <a:solidFill>
                  <a:srgbClr val="cc3300"/>
                </a:solidFill>
                <a:latin typeface="Verdana"/>
              </a:rPr>
              <a:t>School in Sant Boi de Llobrega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Verdana"/>
              </a:rPr>
              <a:t>This school is a member of the </a:t>
            </a:r>
            <a:r>
              <a:rPr b="0" lang="en-CA" sz="2400" spc="-1" strike="noStrike" u="sng">
                <a:solidFill>
                  <a:srgbClr val="ffff00"/>
                </a:solidFill>
                <a:uFillTx/>
                <a:latin typeface="Verdana"/>
              </a:rPr>
              <a:t>Green School Network</a:t>
            </a:r>
            <a:r>
              <a:rPr b="0" lang="en-CA" sz="2400" spc="-1" strike="noStrike">
                <a:solidFill>
                  <a:srgbClr val="ffffcc"/>
                </a:solidFill>
                <a:latin typeface="Verdana"/>
              </a:rPr>
              <a:t> run by the Department of Education of the Catalan Government (north-eastern Spain). Its main objective is promoting nature and respect for the environ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Verdana"/>
              </a:rPr>
              <a:t>One of the school’s main aims is to promote the use of clean transport such as walking and cycl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Verdana"/>
              </a:rPr>
              <a:t>Each year a bicycle tour for new students (primer d’ESO, 12 years old) is organiz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Verdana"/>
              </a:rPr>
              <a:t>In 2002 and after having made a request, the school obtained permission from the Sant Boi town council to build bicycle parking</a:t>
            </a: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3300"/>
                </a:solidFill>
                <a:latin typeface="Verdana"/>
              </a:rPr>
              <a:t>Bicycle par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3598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cc"/>
                </a:solidFill>
                <a:latin typeface="Verdana"/>
              </a:rPr>
              <a:t>The parking area is easily watched from the bar and can be locked with a key kept at the school porter’s de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38736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3300"/>
                </a:solidFill>
                <a:latin typeface="Verdana"/>
              </a:rPr>
              <a:t>Bicycle par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6275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cc"/>
                </a:solidFill>
                <a:latin typeface="Verdana"/>
              </a:rPr>
              <a:t>Students and employees can use this parking area situated on the main playgr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03640" y="2986200"/>
            <a:ext cx="52560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3300"/>
                </a:solidFill>
                <a:latin typeface="Verdana"/>
              </a:rPr>
              <a:t>Bicycle ev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cc"/>
                </a:solidFill>
                <a:latin typeface="Verdana"/>
              </a:rPr>
              <a:t>The Biciclot company organizes a bicycle tour for the younger students (“primer d’eso”, around 12 years old), including a course on traffic educ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2698920"/>
            <a:ext cx="763272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3300"/>
                </a:solidFill>
                <a:latin typeface="Verdana"/>
              </a:rPr>
              <a:t>Bicycle ev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632720" cy="238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987640" y="3344760"/>
            <a:ext cx="5400720" cy="2565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4653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cc"/>
                </a:solidFill>
                <a:latin typeface="Verdana"/>
              </a:rPr>
              <a:t>Getting ready for a tour around t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3300"/>
                </a:solidFill>
                <a:latin typeface="Verdana"/>
              </a:rPr>
              <a:t>Bicycle ev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5219640" cy="212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753080" cy="214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580000" y="4365720"/>
            <a:ext cx="270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ffffff"/>
                </a:solidFill>
                <a:latin typeface="Verdana"/>
              </a:rPr>
              <a:t>On the ride, the students learn tips about the environment. Photo above: at the foot of Sant Ramon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Verdana"/>
              </a:rPr>
              <a:t>Weak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cc"/>
                </a:solidFill>
                <a:latin typeface="Verdana"/>
              </a:rPr>
              <a:t>The bicycle parking is not used as it could be. This is becaus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27664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ffff00"/>
                </a:solidFill>
                <a:uFillTx/>
                <a:latin typeface="Verdana"/>
              </a:rPr>
              <a:t>A lack of bicycle paths or safe school routes to the center</a:t>
            </a:r>
            <a:r>
              <a:rPr b="0" lang="ca-ES" sz="2200" spc="-1" strike="noStrike">
                <a:solidFill>
                  <a:srgbClr val="ffffcc"/>
                </a:solidFill>
                <a:latin typeface="Verdana"/>
              </a:rPr>
              <a:t> from Sant Boi and from nearby towns or vill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00"/>
                </a:solidFill>
                <a:uFillTx/>
                <a:latin typeface="Verdana"/>
              </a:rPr>
              <a:t>Difficulty</a:t>
            </a:r>
            <a:r>
              <a:rPr b="0" lang="ca-ES" sz="2200" spc="-1" strike="noStrike">
                <a:solidFill>
                  <a:srgbClr val="ffffcc"/>
                </a:solidFill>
                <a:latin typeface="Verdana"/>
              </a:rPr>
              <a:t> for students as well as school employees (teachers and other school workers) </a:t>
            </a:r>
            <a:r>
              <a:rPr b="0" lang="ca-ES" sz="2200" spc="-1" strike="noStrike" u="sng">
                <a:solidFill>
                  <a:srgbClr val="ffff00"/>
                </a:solidFill>
                <a:uFillTx/>
                <a:latin typeface="Verdana"/>
              </a:rPr>
              <a:t>to find a good place to keep the bicycle at home</a:t>
            </a:r>
            <a:r>
              <a:rPr b="0" lang="ca-ES" sz="2200" spc="-1" strike="noStrike" u="sng">
                <a:solidFill>
                  <a:srgbClr val="ffffcc"/>
                </a:solidFill>
                <a:uFillTx/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ffff00"/>
                </a:solidFill>
                <a:uFillTx/>
                <a:latin typeface="Verdana"/>
              </a:rPr>
              <a:t>Living close to school,</a:t>
            </a:r>
            <a:r>
              <a:rPr b="0" lang="ca-ES" sz="2200" spc="-1" strike="noStrike">
                <a:solidFill>
                  <a:srgbClr val="ffffcc"/>
                </a:solidFill>
                <a:latin typeface="Verdana"/>
              </a:rPr>
              <a:t> as the majority of the students do, means they prefer to walk, also a healthy hab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ffff00"/>
                </a:solidFill>
                <a:uFillTx/>
                <a:latin typeface="Verdana"/>
              </a:rPr>
              <a:t>Generally, people are not used to using bikes</a:t>
            </a:r>
            <a:r>
              <a:rPr b="0" lang="ca-E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ca-ES" sz="2200" spc="-1" strike="noStrike">
                <a:solidFill>
                  <a:srgbClr val="ffffcc"/>
                </a:solidFill>
                <a:latin typeface="Verdana"/>
              </a:rPr>
              <a:t>as an alternative means of trans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cc3300"/>
                </a:solidFill>
                <a:latin typeface="Verdana"/>
              </a:rPr>
              <a:t>We want safe school routes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We have to solve the problems step by step and it is especially important that the town council promote </a:t>
            </a:r>
            <a:r>
              <a:rPr b="0" lang="ca-ES" sz="2400" spc="-1" strike="noStrike" u="sng">
                <a:solidFill>
                  <a:srgbClr val="ffff00"/>
                </a:solidFill>
                <a:uFillTx/>
                <a:latin typeface="Verdana"/>
              </a:rPr>
              <a:t>safe routes to school</a:t>
            </a: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 by improving the conditions for walking and cycling to schoo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828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cc3300"/>
                </a:solidFill>
                <a:latin typeface="Verdana"/>
              </a:rPr>
              <a:t>What are school routes?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03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cc"/>
                </a:solidFill>
                <a:latin typeface="Verdana"/>
              </a:rPr>
              <a:t>The routes that children and teenagers have to follow from their homes to  scho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03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3300"/>
                </a:solidFill>
                <a:latin typeface="Verdana"/>
              </a:rPr>
              <a:t>How we can improve safe routes to school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5194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Above all, we must improve</a:t>
            </a:r>
            <a:r>
              <a:rPr b="0" lang="ca-ES" sz="2400" spc="-1" strike="noStrike">
                <a:solidFill>
                  <a:srgbClr val="ffff00"/>
                </a:solidFill>
                <a:latin typeface="Verdana"/>
              </a:rPr>
              <a:t> access</a:t>
            </a: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 by foot and bicycle, because these are the most accessible and healthy means of transport for pupil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And most important, we need to achieve </a:t>
            </a:r>
            <a:r>
              <a:rPr b="0" lang="ca-ES" sz="2400" spc="-1" strike="noStrike">
                <a:solidFill>
                  <a:srgbClr val="ffff00"/>
                </a:solidFill>
                <a:latin typeface="Verdana"/>
              </a:rPr>
              <a:t>traffic calming</a:t>
            </a:r>
            <a:r>
              <a:rPr b="0" lang="ca-ES" sz="2400" spc="-1" strike="noStrike">
                <a:solidFill>
                  <a:srgbClr val="ffffcc"/>
                </a:solidFill>
                <a:latin typeface="Verdana"/>
              </a:rPr>
              <a:t> to 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guarantee everybody’s safe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2719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3300"/>
                </a:solidFill>
                <a:latin typeface="Verdana"/>
              </a:rPr>
              <a:t>How can we achieve traffic calm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Verdana"/>
              </a:rPr>
              <a:t>By placing traffic signals on the streets to reduce the speed of cars around schoo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16360" y="3222720"/>
            <a:ext cx="3527640" cy="287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21480" y="6237360"/>
            <a:ext cx="278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000" spc="-1" strike="noStrike">
                <a:solidFill>
                  <a:srgbClr val="ffffff"/>
                </a:solidFill>
                <a:latin typeface="Verdana"/>
              </a:rPr>
              <a:t>Tabor School, Sagrada Familia, Barcel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3300"/>
                </a:solidFill>
                <a:latin typeface="Verdana"/>
              </a:rPr>
              <a:t>How can we achieve traffic calm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cc"/>
                </a:solidFill>
                <a:latin typeface="Verdana"/>
              </a:rPr>
              <a:t>By placing speed humps at pedestrian crossin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5761080" cy="403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59640" y="579132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ffffff"/>
                </a:solidFill>
                <a:latin typeface="Verdana"/>
              </a:rPr>
              <a:t>Raised pedestrian crossing, Viladec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3300"/>
                </a:solidFill>
                <a:latin typeface="Verdana"/>
              </a:rPr>
              <a:t>How can we achieve traffic calming?</a:t>
            </a:r>
            <a:r>
              <a:rPr b="1" lang="ca-ES" sz="36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cc"/>
                </a:solidFill>
                <a:latin typeface="Verdana"/>
              </a:rPr>
              <a:t>By enlarging existing and building new pedestrian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769080" cy="3600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80160" y="636732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ffffff"/>
                </a:solidFill>
                <a:latin typeface="Verdana"/>
              </a:rPr>
              <a:t>Enlarged sidewalk in Gràcia, Barc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3300"/>
                </a:solidFill>
                <a:latin typeface="Verdana"/>
              </a:rPr>
              <a:t>How can we achieve  traffic calm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5276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cc"/>
                </a:solidFill>
                <a:latin typeface="Verdana"/>
              </a:rPr>
              <a:t>By making cycling  easier, by building cycle paths and bicycle park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330984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24040" y="6296040"/>
            <a:ext cx="401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ffffff"/>
                </a:solidFill>
                <a:latin typeface="Verdana"/>
              </a:rPr>
              <a:t>Bicycle parking in front of Tabor School, Barc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cc3300"/>
                </a:solidFill>
                <a:latin typeface="Verdana"/>
              </a:rPr>
              <a:t>The bicycle: a very important tool for Deltebre students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3294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3300"/>
                </a:solidFill>
                <a:latin typeface="Verdana"/>
              </a:rPr>
              <a:t>Deltebre pollution-fre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81800" cy="4584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818440" y="602136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Verdana"/>
              </a:rPr>
              <a:t>El Periódico, November 17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9:54:18Z</dcterms:created>
  <dc:creator>Paco</dc:creator>
  <dc:description/>
  <dc:language>en-US</dc:language>
  <cp:lastModifiedBy>Ben Gorrod</cp:lastModifiedBy>
  <dcterms:modified xsi:type="dcterms:W3CDTF">2004-11-17T15:04:13Z</dcterms:modified>
  <cp:revision>64</cp:revision>
  <dc:subject/>
  <dc:title>El camí escolar Amics de la bici</dc:title>
</cp:coreProperties>
</file>